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CC25-3A8B-4208-B5CF-514B8D233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655C-6967-483E-B346-A01C9107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5E98-3E71-4589-A216-BA458BD9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E132-C665-4746-B00F-59F125E5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9725-BB75-4ECB-9FFA-6D184868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E3BA-F81D-4AEE-AFC1-CAD9E404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31AD-F8A5-49E0-8FAE-5E7BF918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3F22-672E-4386-80B3-027AD71F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8C95-EDEB-4530-9C51-5C7CA7DB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9311-99CD-41EF-9040-5068B264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B26B-ABFB-4550-A346-326D072D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F1B4-7C2E-413C-947E-B13CFBB2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304D-4521-4FB3-B971-E2013A5F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10A2-A4AC-4223-8E31-A07033E6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3604-5BB3-4856-BCAC-1083C932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2640-DD23-43D3-843E-6BF118D6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916C-13F4-4055-AF1C-FCAAB122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5504C5-41EA-47C5-8FC0-97D2BB8A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03D530-A746-47A5-851D-04882E6F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A6B10-3892-40E2-A597-4EC6DE00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A660C1-EAF8-41A9-AE50-656F2C00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12C9DA-7F86-419E-B979-D3868D28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CDFD-88FF-4F5D-9C69-8D29CE02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96B20C-3570-4BDC-8E2A-82F4610D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A5927-A208-44FB-A334-D407473E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A3E73-215B-44E5-BBEE-FE297ABA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BEB8BA-C64F-4031-B686-D7064359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A182EF-5B36-4EAC-B4CD-73DD5494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A93F27-EBB5-4830-944F-6ED9739C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6C44B2-6B07-4AD4-8324-FE305AAE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3BBB1-C326-4A9E-B7D1-788443BA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1F920-034D-4A19-8C0B-C1AA97AF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BF91A-3CC8-4EA2-B901-BA15E1DF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CD22-A7F5-48FB-A2C6-AFC48013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D05B4-62AB-40D3-99A5-1FECEAD4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364E0-F45B-4FEC-990E-201EC2DD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EBD44-1BBD-4D5E-9AF5-348C7D10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B213E-2D74-4371-B119-B1B6E4BF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C41C9-B48D-46BF-81D6-E0D9A283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E43B6-6023-4F4D-B98D-2E0B2190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CF136-B2BA-4FDC-B261-217D0A5B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727F5-EA75-422C-A89D-5FBA0015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7AD30-9E90-4C42-92B5-7BB000FE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213D-64BC-44CD-8D6F-D8D83E63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85A8-2A3C-4B4B-8D04-BB53B5FF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A721-2C88-4BDA-81FD-09365901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DB25-6F29-42DD-89AF-55F1991D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15A5-5657-4D94-8205-0464242B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EEDF-4351-4D05-96CD-7B218A6A0612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rostokąt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rostokąt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rostokąt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rostokąt zaokrąglony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rostokąt zaokrąglony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rostokąt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ostokąt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rostokąt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rostokąt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3646-5C46-463C-BAB0-8B98CAA6231D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1553-4702-45F6-8966-226B945E90D6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6E16-06D2-4FD7-818D-A57D2B4746A4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406f8d"/>
                </a:solidFill>
                <a:latin typeface="Georgia"/>
              </a:rPr>
              <a:t>Na przykładzi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Georgia"/>
              </a:rPr>
              <a:t>p = (a+ 1)b + 2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rebuchet MS"/>
              </a:rPr>
              <a:t>Przekształcanie wzorów z nawiasami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795920" y="1197000"/>
            <a:ext cx="4251240" cy="53481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0767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24456"/>
                </a:solidFill>
                <a:latin typeface="Trebuchet MS"/>
              </a:rPr>
              <a:t>Wyznaczanie danej wielkości ze wzoru </a:t>
            </a:r>
            <a:br>
              <a:rPr sz="900"/>
            </a:b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AutoShape 28"/>
          <p:cNvSpPr/>
          <p:nvPr/>
        </p:nvSpPr>
        <p:spPr>
          <a:xfrm>
            <a:off x="2050920" y="1700280"/>
            <a:ext cx="2737080" cy="504720"/>
          </a:xfrm>
          <a:prstGeom prst="wedgeRectCallout">
            <a:avLst>
              <a:gd name="adj1" fmla="val 64444"/>
              <a:gd name="adj2" fmla="val -27046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Ze wz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40"/>
          <p:cNvSpPr/>
          <p:nvPr/>
        </p:nvSpPr>
        <p:spPr>
          <a:xfrm>
            <a:off x="2050920" y="2421000"/>
            <a:ext cx="2737080" cy="576360"/>
          </a:xfrm>
          <a:prstGeom prst="wedgeRectCallout">
            <a:avLst>
              <a:gd name="adj1" fmla="val 64328"/>
              <a:gd name="adj2" fmla="val -8402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wyznaczam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4"/>
          <p:cNvSpPr/>
          <p:nvPr/>
        </p:nvSpPr>
        <p:spPr>
          <a:xfrm>
            <a:off x="900000" y="3284640"/>
            <a:ext cx="3816360" cy="792000"/>
          </a:xfrm>
          <a:prstGeom prst="wedgeRectCallout">
            <a:avLst>
              <a:gd name="adj1" fmla="val 58111"/>
              <a:gd name="adj2" fmla="val 2895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w pierwszej kolejności </a:t>
            </a:r>
            <a:br>
              <a:rPr sz="1600"/>
            </a:b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uwalniamy się od nawia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7"/>
          <p:cNvSpPr/>
          <p:nvPr/>
        </p:nvSpPr>
        <p:spPr>
          <a:xfrm>
            <a:off x="900000" y="4292640"/>
            <a:ext cx="3816360" cy="647640"/>
          </a:xfrm>
          <a:prstGeom prst="wedgeRectCallout">
            <a:avLst>
              <a:gd name="adj1" fmla="val 57694"/>
              <a:gd name="adj2" fmla="val -50736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podkreślmy wielkość, którą mamy wyznaczy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72"/>
              <p:cNvSpPr txBox="1"/>
              <p:nvPr/>
            </p:nvSpPr>
            <p:spPr>
              <a:xfrm>
                <a:off x="5219640" y="1628640"/>
                <a:ext cx="34066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73"/>
              <p:cNvSpPr txBox="1"/>
              <p:nvPr/>
            </p:nvSpPr>
            <p:spPr>
              <a:xfrm>
                <a:off x="5076720" y="3789360"/>
                <a:ext cx="38721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74"/>
              <p:cNvSpPr txBox="1"/>
              <p:nvPr/>
            </p:nvSpPr>
            <p:spPr>
              <a:xfrm>
                <a:off x="5292720" y="2492280"/>
                <a:ext cx="3268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Line 75"/>
          <p:cNvSpPr/>
          <p:nvPr/>
        </p:nvSpPr>
        <p:spPr>
          <a:xfrm>
            <a:off x="6156360" y="4221000"/>
            <a:ext cx="360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6"/>
          <p:cNvSpPr/>
          <p:nvPr/>
        </p:nvSpPr>
        <p:spPr>
          <a:xfrm>
            <a:off x="8532720" y="4221000"/>
            <a:ext cx="360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77"/>
          <p:cNvSpPr/>
          <p:nvPr/>
        </p:nvSpPr>
        <p:spPr>
          <a:xfrm>
            <a:off x="468360" y="5157720"/>
            <a:ext cx="4248000" cy="863640"/>
          </a:xfrm>
          <a:prstGeom prst="wedgeRectCallout">
            <a:avLst>
              <a:gd name="adj1" fmla="val 56092"/>
              <a:gd name="adj2" fmla="val -16175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porządkujemy równanie, </a:t>
            </a:r>
            <a:br>
              <a:rPr sz="1400"/>
            </a:b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zapisujemy wiadome po jednej stronie równania, </a:t>
            </a:r>
            <a:br>
              <a:rPr sz="1400"/>
            </a:b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a niewiadome po drugiej stro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78"/>
              <p:cNvSpPr txBox="1"/>
              <p:nvPr/>
            </p:nvSpPr>
            <p:spPr>
              <a:xfrm>
                <a:off x="5076720" y="5157720"/>
                <a:ext cx="38721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Line 79"/>
          <p:cNvSpPr/>
          <p:nvPr/>
        </p:nvSpPr>
        <p:spPr>
          <a:xfrm>
            <a:off x="7093080" y="5589720"/>
            <a:ext cx="360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80"/>
          <p:cNvSpPr/>
          <p:nvPr/>
        </p:nvSpPr>
        <p:spPr>
          <a:xfrm>
            <a:off x="8532720" y="5589720"/>
            <a:ext cx="360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7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795920" y="1197000"/>
            <a:ext cx="4251240" cy="53481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36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24456"/>
                </a:solidFill>
                <a:latin typeface="Trebuchet MS"/>
              </a:rPr>
              <a:t>Wyznaczanie danej wielkości ze wzoru </a:t>
            </a:r>
            <a:br>
              <a:rPr sz="900"/>
            </a:b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468360" y="1989000"/>
            <a:ext cx="3960720" cy="1008360"/>
          </a:xfrm>
          <a:prstGeom prst="wedgeRectCallout">
            <a:avLst>
              <a:gd name="adj1" fmla="val 64949"/>
              <a:gd name="adj2" fmla="val -1180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Po prawej stronie równania niewiadoma „a” występuje w dwóch wyrazach, dlatego wyłączamy wspólny czynnik „a” przed naw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611280" y="3357720"/>
            <a:ext cx="3960720" cy="1081080"/>
          </a:xfrm>
          <a:prstGeom prst="wedgeRectCallout">
            <a:avLst>
              <a:gd name="adj1" fmla="val 76013"/>
              <a:gd name="adj2" fmla="val -5212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Obie strony równania dzielimy przez b+2. </a:t>
            </a:r>
            <a:r>
              <a:rPr b="0" lang="pl-PL" sz="1600" spc="-1" strike="noStrike">
                <a:solidFill>
                  <a:srgbClr val="efe40d"/>
                </a:solidFill>
                <a:latin typeface="Georgia"/>
              </a:rPr>
              <a:t>Pamiętamy</a:t>
            </a: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, że nie ma dzielenia przez 0, więc musimy założyć, że b+2 </a:t>
            </a:r>
            <a:r>
              <a:rPr b="0" lang="pl-PL" sz="1600" spc="-1" strike="noStrike">
                <a:solidFill>
                  <a:srgbClr val="ffffff"/>
                </a:solidFill>
                <a:latin typeface="Georgia"/>
                <a:ea typeface="Arial"/>
              </a:rPr>
              <a:t>≠ </a:t>
            </a: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468360" y="5084640"/>
            <a:ext cx="3816360" cy="792360"/>
          </a:xfrm>
          <a:prstGeom prst="wedgeRectCallout">
            <a:avLst>
              <a:gd name="adj1" fmla="val 62601"/>
              <a:gd name="adj2" fmla="val -470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Obie strony równania zamieniamy stronami,  aby łatwiej można było odczytać wzó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9"/>
              <p:cNvSpPr txBox="1"/>
              <p:nvPr/>
            </p:nvSpPr>
            <p:spPr>
              <a:xfrm>
                <a:off x="5724360" y="3284640"/>
                <a:ext cx="25416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14"/>
              <p:cNvSpPr txBox="1"/>
              <p:nvPr/>
            </p:nvSpPr>
            <p:spPr>
              <a:xfrm>
                <a:off x="5076720" y="1341360"/>
                <a:ext cx="38721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Line 15"/>
          <p:cNvSpPr/>
          <p:nvPr/>
        </p:nvSpPr>
        <p:spPr>
          <a:xfrm>
            <a:off x="7093080" y="1773360"/>
            <a:ext cx="360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>
            <a:off x="8532720" y="1773360"/>
            <a:ext cx="360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17"/>
              <p:cNvSpPr txBox="1"/>
              <p:nvPr/>
            </p:nvSpPr>
            <p:spPr>
              <a:xfrm>
                <a:off x="5095800" y="2276640"/>
                <a:ext cx="38322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19"/>
              <p:cNvSpPr txBox="1"/>
              <p:nvPr/>
            </p:nvSpPr>
            <p:spPr>
              <a:xfrm>
                <a:off x="5724360" y="4724280"/>
                <a:ext cx="25416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75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892760" y="765000"/>
            <a:ext cx="4251240" cy="6093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4824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780c7"/>
                </a:solidFill>
                <a:latin typeface="Trebuchet MS"/>
              </a:rPr>
              <a:t>Ćwiczenia dla uczniów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Rectangle 48"/>
          <p:cNvSpPr/>
          <p:nvPr/>
        </p:nvSpPr>
        <p:spPr>
          <a:xfrm>
            <a:off x="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56"/>
          <p:cNvGrpSpPr/>
          <p:nvPr/>
        </p:nvGrpSpPr>
        <p:grpSpPr>
          <a:xfrm>
            <a:off x="4357800" y="2712960"/>
            <a:ext cx="3922560" cy="571680"/>
            <a:chOff x="4357800" y="2712960"/>
            <a:chExt cx="3922560" cy="571680"/>
          </a:xfrm>
        </p:grpSpPr>
        <p:sp>
          <p:nvSpPr>
            <p:cNvPr id="247" name="Rectangle 49"/>
            <p:cNvSpPr/>
            <p:nvPr/>
          </p:nvSpPr>
          <p:spPr>
            <a:xfrm>
              <a:off x="4357800" y="27932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8" name="Object 46"/>
                <p:cNvSpPr txBox="1"/>
                <p:nvPr/>
              </p:nvSpPr>
              <p:spPr>
                <a:xfrm>
                  <a:off x="5148360" y="2712960"/>
                  <a:ext cx="313200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a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9" name="Group 57"/>
          <p:cNvGrpSpPr/>
          <p:nvPr/>
        </p:nvGrpSpPr>
        <p:grpSpPr>
          <a:xfrm>
            <a:off x="4357440" y="3357720"/>
            <a:ext cx="3778560" cy="564840"/>
            <a:chOff x="4357440" y="3357720"/>
            <a:chExt cx="3778560" cy="564840"/>
          </a:xfrm>
        </p:grpSpPr>
        <p:sp>
          <p:nvSpPr>
            <p:cNvPr id="250" name="Rectangle 50"/>
            <p:cNvSpPr/>
            <p:nvPr/>
          </p:nvSpPr>
          <p:spPr>
            <a:xfrm>
              <a:off x="4357440" y="3426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" name="Object 45"/>
                <p:cNvSpPr txBox="1"/>
                <p:nvPr/>
              </p:nvSpPr>
              <p:spPr>
                <a:xfrm>
                  <a:off x="5148360" y="3357720"/>
                  <a:ext cx="2987640" cy="56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2" name="Group 58"/>
          <p:cNvGrpSpPr/>
          <p:nvPr/>
        </p:nvGrpSpPr>
        <p:grpSpPr>
          <a:xfrm>
            <a:off x="4357800" y="4040280"/>
            <a:ext cx="3670200" cy="468360"/>
            <a:chOff x="4357800" y="4040280"/>
            <a:chExt cx="3670200" cy="468360"/>
          </a:xfrm>
        </p:grpSpPr>
        <p:sp>
          <p:nvSpPr>
            <p:cNvPr id="253" name="Rectangle 51"/>
            <p:cNvSpPr/>
            <p:nvPr/>
          </p:nvSpPr>
          <p:spPr>
            <a:xfrm>
              <a:off x="4357800" y="40600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Object 44"/>
                <p:cNvSpPr txBox="1"/>
                <p:nvPr/>
              </p:nvSpPr>
              <p:spPr>
                <a:xfrm>
                  <a:off x="5148360" y="4040280"/>
                  <a:ext cx="28796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5" name="Group 59"/>
          <p:cNvGrpSpPr/>
          <p:nvPr/>
        </p:nvGrpSpPr>
        <p:grpSpPr>
          <a:xfrm>
            <a:off x="4357080" y="4653000"/>
            <a:ext cx="3599640" cy="541440"/>
            <a:chOff x="4357080" y="4653000"/>
            <a:chExt cx="3599640" cy="541440"/>
          </a:xfrm>
        </p:grpSpPr>
        <p:sp>
          <p:nvSpPr>
            <p:cNvPr id="256" name="Rectangle 52"/>
            <p:cNvSpPr/>
            <p:nvPr/>
          </p:nvSpPr>
          <p:spPr>
            <a:xfrm>
              <a:off x="4357080" y="4693680"/>
              <a:ext cx="41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e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Object 43"/>
                <p:cNvSpPr txBox="1"/>
                <p:nvPr/>
              </p:nvSpPr>
              <p:spPr>
                <a:xfrm>
                  <a:off x="5076720" y="4653000"/>
                  <a:ext cx="288000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n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8" name="Group 60"/>
          <p:cNvGrpSpPr/>
          <p:nvPr/>
        </p:nvGrpSpPr>
        <p:grpSpPr>
          <a:xfrm>
            <a:off x="4357440" y="5273640"/>
            <a:ext cx="3383280" cy="500040"/>
            <a:chOff x="4357440" y="5273640"/>
            <a:chExt cx="3383280" cy="500040"/>
          </a:xfrm>
        </p:grpSpPr>
        <p:sp>
          <p:nvSpPr>
            <p:cNvPr id="259" name="Rectangle 53"/>
            <p:cNvSpPr/>
            <p:nvPr/>
          </p:nvSpPr>
          <p:spPr>
            <a:xfrm>
              <a:off x="4357440" y="5328360"/>
              <a:ext cx="3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f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0" name="Object 42"/>
                <p:cNvSpPr txBox="1"/>
                <p:nvPr/>
              </p:nvSpPr>
              <p:spPr>
                <a:xfrm>
                  <a:off x="5076720" y="5273640"/>
                  <a:ext cx="266400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1" name="Group 55"/>
          <p:cNvGrpSpPr/>
          <p:nvPr/>
        </p:nvGrpSpPr>
        <p:grpSpPr>
          <a:xfrm>
            <a:off x="4356720" y="2136600"/>
            <a:ext cx="3887280" cy="500400"/>
            <a:chOff x="4356720" y="2136600"/>
            <a:chExt cx="3887280" cy="500400"/>
          </a:xfrm>
        </p:grpSpPr>
        <mc:AlternateContent>
          <mc:Choice xmlns:a14="http://schemas.microsoft.com/office/drawing/2010/main" Requires="a14">
            <p:sp>
              <p:nvSpPr>
                <p:cNvPr id="262" name="Object 47"/>
                <p:cNvSpPr txBox="1"/>
                <p:nvPr/>
              </p:nvSpPr>
              <p:spPr>
                <a:xfrm>
                  <a:off x="5148360" y="2136600"/>
                  <a:ext cx="3095640" cy="50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18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3" name="Rectangle 54"/>
            <p:cNvSpPr/>
            <p:nvPr/>
          </p:nvSpPr>
          <p:spPr>
            <a:xfrm>
              <a:off x="4356720" y="2160000"/>
              <a:ext cx="41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Objaśnienie w chmurce 2"/>
          <p:cNvSpPr/>
          <p:nvPr/>
        </p:nvSpPr>
        <p:spPr>
          <a:xfrm>
            <a:off x="539640" y="1916280"/>
            <a:ext cx="3240360" cy="2233440"/>
          </a:xfrm>
          <a:prstGeom prst="cloudCallout">
            <a:avLst>
              <a:gd name="adj1" fmla="val -50523"/>
              <a:gd name="adj2" fmla="val 79995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2f2f2"/>
                </a:solidFill>
                <a:latin typeface="Georgia"/>
              </a:rPr>
              <a:t>Z każdego równania wyznacz kolejno każdą niewiadom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7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3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75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375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675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892760" y="765000"/>
            <a:ext cx="4251240" cy="6093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4824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780c7"/>
                </a:solidFill>
                <a:latin typeface="Trebuchet MS"/>
              </a:rPr>
              <a:t>Ćwiczenia dla uczniów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1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39"/>
          <p:cNvGrpSpPr/>
          <p:nvPr/>
        </p:nvGrpSpPr>
        <p:grpSpPr>
          <a:xfrm>
            <a:off x="4357800" y="3987720"/>
            <a:ext cx="4462200" cy="440640"/>
            <a:chOff x="4357800" y="3987720"/>
            <a:chExt cx="4462200" cy="440640"/>
          </a:xfrm>
        </p:grpSpPr>
        <p:sp>
          <p:nvSpPr>
            <p:cNvPr id="273" name="Rectangle 11"/>
            <p:cNvSpPr/>
            <p:nvPr/>
          </p:nvSpPr>
          <p:spPr>
            <a:xfrm>
              <a:off x="4357800" y="40600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Object 30"/>
                <p:cNvSpPr txBox="1"/>
                <p:nvPr/>
              </p:nvSpPr>
              <p:spPr>
                <a:xfrm>
                  <a:off x="4970520" y="3987720"/>
                  <a:ext cx="258912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c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5" name="Object 32"/>
                <p:cNvSpPr txBox="1"/>
                <p:nvPr/>
              </p:nvSpPr>
              <p:spPr>
                <a:xfrm>
                  <a:off x="8101080" y="4005360"/>
                  <a:ext cx="71892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6" name="Group 36"/>
          <p:cNvGrpSpPr/>
          <p:nvPr/>
        </p:nvGrpSpPr>
        <p:grpSpPr>
          <a:xfrm>
            <a:off x="4356720" y="2133720"/>
            <a:ext cx="4073040" cy="488880"/>
            <a:chOff x="4356720" y="2133720"/>
            <a:chExt cx="4073040" cy="488880"/>
          </a:xfrm>
        </p:grpSpPr>
        <p:sp>
          <p:nvSpPr>
            <p:cNvPr id="277" name="Rectangle 17"/>
            <p:cNvSpPr/>
            <p:nvPr/>
          </p:nvSpPr>
          <p:spPr>
            <a:xfrm>
              <a:off x="4356720" y="2160000"/>
              <a:ext cx="41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Object 18"/>
                <p:cNvSpPr txBox="1"/>
                <p:nvPr/>
              </p:nvSpPr>
              <p:spPr>
                <a:xfrm>
                  <a:off x="5076720" y="2133720"/>
                  <a:ext cx="223200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πr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+</m:t>
                      </m:r>
                      <m:r>
                        <m:t xml:space="preserve">L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9" name="Object 33"/>
                <p:cNvSpPr txBox="1"/>
                <p:nvPr/>
              </p:nvSpPr>
              <p:spPr>
                <a:xfrm>
                  <a:off x="8101080" y="2174760"/>
                  <a:ext cx="32868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0" name="Group 37"/>
          <p:cNvGrpSpPr/>
          <p:nvPr/>
        </p:nvGrpSpPr>
        <p:grpSpPr>
          <a:xfrm>
            <a:off x="4357800" y="2773440"/>
            <a:ext cx="4086000" cy="439560"/>
            <a:chOff x="4357800" y="2773440"/>
            <a:chExt cx="4086000" cy="439560"/>
          </a:xfrm>
        </p:grpSpPr>
        <p:sp>
          <p:nvSpPr>
            <p:cNvPr id="281" name="Rectangle 7"/>
            <p:cNvSpPr/>
            <p:nvPr/>
          </p:nvSpPr>
          <p:spPr>
            <a:xfrm>
              <a:off x="4357800" y="27932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2" name="Object 26"/>
                <p:cNvSpPr txBox="1"/>
                <p:nvPr/>
              </p:nvSpPr>
              <p:spPr>
                <a:xfrm>
                  <a:off x="5076720" y="2773440"/>
                  <a:ext cx="284328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ac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c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Object 34"/>
                <p:cNvSpPr txBox="1"/>
                <p:nvPr/>
              </p:nvSpPr>
              <p:spPr>
                <a:xfrm>
                  <a:off x="8101080" y="2774880"/>
                  <a:ext cx="34272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4" name="Group 38"/>
          <p:cNvGrpSpPr/>
          <p:nvPr/>
        </p:nvGrpSpPr>
        <p:grpSpPr>
          <a:xfrm>
            <a:off x="4357440" y="3365640"/>
            <a:ext cx="4403880" cy="495000"/>
            <a:chOff x="4357440" y="3365640"/>
            <a:chExt cx="4403880" cy="495000"/>
          </a:xfrm>
        </p:grpSpPr>
        <p:sp>
          <p:nvSpPr>
            <p:cNvPr id="285" name="Rectangle 9"/>
            <p:cNvSpPr/>
            <p:nvPr/>
          </p:nvSpPr>
          <p:spPr>
            <a:xfrm>
              <a:off x="4357440" y="3426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Object 28"/>
                <p:cNvSpPr txBox="1"/>
                <p:nvPr/>
              </p:nvSpPr>
              <p:spPr>
                <a:xfrm>
                  <a:off x="5076720" y="3365640"/>
                  <a:ext cx="2303640" cy="49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π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+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7" name="Object 35"/>
                <p:cNvSpPr txBox="1"/>
                <p:nvPr/>
              </p:nvSpPr>
              <p:spPr>
                <a:xfrm>
                  <a:off x="8101080" y="3365640"/>
                  <a:ext cx="66024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,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8" name="Objaśnienie w chmurce 2"/>
          <p:cNvSpPr/>
          <p:nvPr/>
        </p:nvSpPr>
        <p:spPr>
          <a:xfrm>
            <a:off x="468360" y="1663560"/>
            <a:ext cx="3382920" cy="2367000"/>
          </a:xfrm>
          <a:prstGeom prst="cloudCallout">
            <a:avLst>
              <a:gd name="adj1" fmla="val -58546"/>
              <a:gd name="adj2" fmla="val 70550"/>
            </a:avLst>
          </a:prstGeom>
          <a:solidFill>
            <a:srgbClr val="ffffff"/>
          </a:solidFill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80c7"/>
                </a:solidFill>
                <a:latin typeface="Times New Roman"/>
              </a:rPr>
              <a:t>Wyznacz </a:t>
            </a:r>
            <a:br>
              <a:rPr sz="1800"/>
            </a:br>
            <a:r>
              <a:rPr b="0" lang="en-US" sz="1800" spc="-1" strike="noStrike">
                <a:solidFill>
                  <a:srgbClr val="1780c7"/>
                </a:solidFill>
                <a:latin typeface="Times New Roman"/>
              </a:rPr>
              <a:t>ze wzorów </a:t>
            </a:r>
            <a:r>
              <a:rPr b="0" lang="pl-PL" sz="1800" spc="-1" strike="noStrike">
                <a:solidFill>
                  <a:srgbClr val="1780c7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1780c7"/>
                </a:solidFill>
                <a:latin typeface="Times New Roman"/>
              </a:rPr>
              <a:t>skazane wielk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75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7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75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8-30T16:01:51Z</dcterms:modified>
  <cp:revision>93</cp:revision>
  <dc:subject/>
  <dc:title>Prezentacja programu PowerPoint</dc:title>
</cp:coreProperties>
</file>